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22168-F358-44B7-B1E0-1471778AF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FC46D-49E5-466D-BA5B-16CE261F3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40A1B-E942-41F7-AFF8-28691DB2B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44A2D-B3CD-4B1B-A55D-4F6D0CA80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FFB35-C4FB-4CD0-BD5E-3D9EDADEE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F95E7-F0A6-40E4-9EB6-FA0D53746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80550-CF3F-4C7B-9D0B-4F6290FC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1A37F-9A90-455B-87CF-189A4DBE9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BF101-A04C-4D3A-9DD4-E8F60840E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626E7-1C7F-4516-B398-263A6649F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EEE3-D8C3-468C-9D4E-E2CF920BC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2A7A-0DF0-41AC-BCEE-04DA1D19B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85AC-48B1-4CC3-BCC3-0FB7CEE5B7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4" name=""/>
          <p:cNvSpPr txBox="1"/>
          <p:nvPr/>
        </p:nvSpPr>
        <p:spPr>
          <a:xfrm>
            <a:off x="1835280" y="4437000"/>
            <a:ext cx="52387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f717"/>
            </a:gs>
            <a:gs pos="50000">
              <a:srgbClr val="fb1313"/>
            </a:gs>
            <a:gs pos="100000">
              <a:srgbClr val="d7f717"/>
            </a:gs>
          </a:gsLst>
          <a:lin ang="13500000"/>
        </a:gradFill>
      </p:bgPr>
    </p:bg>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pic>
        <p:nvPicPr>
          <p:cNvPr id="46"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5</cp:lastModifiedBy>
  <dcterms:modified xsi:type="dcterms:W3CDTF">2012-06-18T11:06:21Z</dcterms:modified>
  <cp:revision>45</cp:revision>
  <dc:subject/>
  <dc:title>SALARIUL</dc:title>
</cp:coreProperties>
</file>